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801600" cy="9601200"/>
  <p:notesSz cx="9882188" cy="14295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AC8-E27A-40B5-B486-B0B8A93F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5D58-16A1-4DB8-9196-96393E1A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590-C73C-4FD9-8540-B587A3E0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FC14-C406-4DF8-849E-4A885018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E1A2-0BBD-4914-9DC4-A7A096CA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7C0-E6A5-4360-A4D7-EFC7E923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AD6-E349-4810-A080-7CB84512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CE1-59DB-4619-B025-CD184DEB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267-B8E0-41EE-A0A0-5E4D6FC1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A0B-4FDB-4688-A140-1718BA54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D88-DA24-4D21-BAFB-008A5294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C36-70C9-4C5B-ABF8-CEC81D87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C49C-9FC0-4C2D-B342-5579C7387C0E}" type="slidenum">
              <a:rPr b="0" lang="fr-FR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8800" y="1055160"/>
            <a:ext cx="3408480" cy="8224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aître d’ouvrage 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Déno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ission(s) réalisée(s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: BASE + EX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Rôl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 : architecte mandataire;  architecte associé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Année d’achèvement ou état d’avancement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Surface de plancher construite (m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ontant travaux (€ 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Type d’opé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: neuf/réhab/extension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Observation(s) éventuel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 facultative libre (précisions diverses, complexité, performance environnementale, démarche spécifique, contrainte particulière, etc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761160" y="5280120"/>
            <a:ext cx="5400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423720" y="257040"/>
            <a:ext cx="119541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aramond"/>
              </a:rPr>
              <a:t>Candidat : </a:t>
            </a:r>
            <a:r>
              <a:rPr b="1" i="1" lang="fr-FR" sz="1800" spc="-1" strike="noStrike">
                <a:solidFill>
                  <a:srgbClr val="00b0f0"/>
                </a:solidFill>
                <a:latin typeface="Garamond"/>
              </a:rPr>
              <a:t>nom du mandatair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aramond"/>
              </a:rPr>
              <a:t>Opération: </a:t>
            </a:r>
            <a:r>
              <a:rPr b="1" i="1" lang="fr-FR" sz="1800" spc="-1" strike="noStrike">
                <a:solidFill>
                  <a:srgbClr val="00b0f0"/>
                </a:solidFill>
                <a:latin typeface="Garamond"/>
              </a:rPr>
              <a:t>intitulé et lieu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3808440" y="1055520"/>
            <a:ext cx="8353440" cy="822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ZoneTexte 2"/>
          <p:cNvSpPr/>
          <p:nvPr/>
        </p:nvSpPr>
        <p:spPr>
          <a:xfrm>
            <a:off x="10971360" y="584280"/>
            <a:ext cx="14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Garamond"/>
              </a:rPr>
              <a:t>Référence n°1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8800" y="1055160"/>
            <a:ext cx="3408480" cy="8224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aître d’ouvrage 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Déno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ission(s) réalisée(s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: BASE + EX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Rôl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 : architecte mandataire;  architecte associé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Année d’achèvement ou état d’avancement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Surface de plancher construite (m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ontant travaux (€ 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Type d’opé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: neuf/réhab/extension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Observation(s) éventuel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 facultative libre (précisions diverses, complexité, performance environnementale, démarche spécifique, contrainte particulière, etc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6761160" y="5280120"/>
            <a:ext cx="5400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423720" y="257040"/>
            <a:ext cx="119541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aramond"/>
              </a:rPr>
              <a:t>Candidat : </a:t>
            </a:r>
            <a:r>
              <a:rPr b="1" i="1" lang="fr-FR" sz="1800" spc="-1" strike="noStrike">
                <a:solidFill>
                  <a:srgbClr val="00b0f0"/>
                </a:solidFill>
                <a:latin typeface="Garamond"/>
              </a:rPr>
              <a:t>nom du mandatair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aramond"/>
              </a:rPr>
              <a:t>Opération: </a:t>
            </a:r>
            <a:r>
              <a:rPr b="1" i="1" lang="fr-FR" sz="1800" spc="-1" strike="noStrike">
                <a:solidFill>
                  <a:srgbClr val="00b0f0"/>
                </a:solidFill>
                <a:latin typeface="Garamond"/>
              </a:rPr>
              <a:t>intitulé et lieu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3808440" y="1055520"/>
            <a:ext cx="8353440" cy="822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ZoneTexte 2"/>
          <p:cNvSpPr/>
          <p:nvPr/>
        </p:nvSpPr>
        <p:spPr>
          <a:xfrm>
            <a:off x="10971360" y="584280"/>
            <a:ext cx="14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Garamond"/>
              </a:rPr>
              <a:t>Référence n°2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8800" y="1055160"/>
            <a:ext cx="3408480" cy="8224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aître d’ouvrage 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Déno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ission(s) réalisée(s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: BASE + EX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Rôl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 : architecte mandataire;  architecte associé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Année d’achèvement ou état d’avancement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Surface de plancher construite (m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ontant travaux (€ 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Type d’opé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: neuf/réhab/extension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Observation(s) éventuel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 facultative libre (précisions diverses, complexité, performance environnementale, démarche spécifique, contrainte particulière, etc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761160" y="5280120"/>
            <a:ext cx="5400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23720" y="257040"/>
            <a:ext cx="119541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aramond"/>
              </a:rPr>
              <a:t>Candidat : </a:t>
            </a:r>
            <a:r>
              <a:rPr b="1" i="1" lang="fr-FR" sz="1800" spc="-1" strike="noStrike">
                <a:solidFill>
                  <a:srgbClr val="00b0f0"/>
                </a:solidFill>
                <a:latin typeface="Garamond"/>
              </a:rPr>
              <a:t>nom du mandatair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aramond"/>
              </a:rPr>
              <a:t>Opération: </a:t>
            </a:r>
            <a:r>
              <a:rPr b="1" i="1" lang="fr-FR" sz="1800" spc="-1" strike="noStrike">
                <a:solidFill>
                  <a:srgbClr val="00b0f0"/>
                </a:solidFill>
                <a:latin typeface="Garamond"/>
              </a:rPr>
              <a:t>intitulé et lieu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3808440" y="1055520"/>
            <a:ext cx="8353440" cy="822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ZoneTexte 2"/>
          <p:cNvSpPr/>
          <p:nvPr/>
        </p:nvSpPr>
        <p:spPr>
          <a:xfrm>
            <a:off x="10971360" y="584280"/>
            <a:ext cx="14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Garamond"/>
              </a:rPr>
              <a:t>Référence n°3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9:44:36Z</dcterms:created>
  <dc:creator>batiprogramme</dc:creator>
  <dc:description/>
  <dc:language>en-US</dc:language>
  <cp:lastModifiedBy>Fréderic LEGRAND</cp:lastModifiedBy>
  <dcterms:modified xsi:type="dcterms:W3CDTF">2020-01-10T12:18:52Z</dcterms:modified>
  <cp:revision>27</cp:revision>
  <dc:subject/>
  <dc:title>Diapositive 1</dc:title>
</cp:coreProperties>
</file>